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C337-ECC0-4C21-A711-B97EFC4AB0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304-8178-46D4-9830-769417B961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6F6-296C-42A4-B376-DCB46676FB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2D8-12E5-4351-89DB-3CF5694F78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7D8-21BE-477B-825C-FE17E86D5B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4AC-71EB-423B-894C-0F9131FF82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607-19B1-4046-8C94-827C1D2A85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A0D2-4C9D-4F3F-B063-A00D12FA3E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31C-293C-452F-A4E3-D22FFC8C6A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E102-DA78-4612-A603-256EFA73FF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D4E-16B5-488A-AD55-8322A5A767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FC73-A6E1-496F-8259-5A1C3BCE5CE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046-F314-4B25-B756-6DD12DFBA8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869-27B0-48FF-AC4E-081B5441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A49-1647-4A51-80F5-0D2A0C59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2C0-FF70-4D8D-BAC0-84D14CA0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383-AE64-43E0-803A-CFC498A6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E3C-0941-46F5-BC57-6FFDFF7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603-5118-433B-9761-3EAEBFC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ADE-1A0A-4BEA-8205-CC13340C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1BD-14B7-4CE3-A0A2-449E228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AD8-B9E8-4B95-82DB-4EA6F313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825-93CA-451B-86CF-2F2BD48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08A-841B-4B18-9923-FFFEC93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DCC-E496-490F-BD30-56D8DF4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A42-C044-4710-9396-22729FDB7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Rectangle 6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40800"/>
            <a:ext cx="7772400" cy="83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Chemistry is Hard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, make, invent, develop, design, propose, predict, assemble, formulate, hypothe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, judge, revise, critique, defend, justify, assess, contrast, support, recommend, conclude, interpr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8436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s how we learn something n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80760"/>
            <a:ext cx="800100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8436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 what we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pay attention to move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5960" y="3740040"/>
            <a:ext cx="1663560" cy="22734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91480" y="385596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8436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for 7 things (on averag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a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3664080"/>
            <a:ext cx="1663920" cy="2273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15520" y="378000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209680" y="4952880"/>
            <a:ext cx="1371600" cy="38124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87760" y="4730760"/>
            <a:ext cx="2044800" cy="15876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638160" y="4998960"/>
            <a:ext cx="205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hort-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formation Processing Theo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8436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process it further it stays with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something requires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5562720" y="4647960"/>
            <a:ext cx="1218960" cy="53316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15960" y="3740040"/>
            <a:ext cx="1663560" cy="22734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91480" y="3855960"/>
            <a:ext cx="1736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0" y="5029200"/>
            <a:ext cx="1371600" cy="380880"/>
          </a:xfrm>
          <a:prstGeom prst="line">
            <a:avLst/>
          </a:prstGeom>
          <a:ln w="76320">
            <a:solidFill>
              <a:srgbClr val="ff820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664080" y="4807080"/>
            <a:ext cx="2044440" cy="15872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714480" y="5075280"/>
            <a:ext cx="205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hort-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711840" y="3282840"/>
            <a:ext cx="1435320" cy="25783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765840" y="3940200"/>
            <a:ext cx="1408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emory Techniqu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earsal- 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nking- grouping the information into meaningful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ing general rules is easier than every specific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best by connecting new knowledge with old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 G B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nother Reason Chemistry is hard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math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math to ex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requi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ebra is used in this class regul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describe the world arou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hat can you do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600200" y="2209680"/>
            <a:ext cx="56386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e84400"/>
                  </a:solidFill>
                  <a:miter/>
                </a:ln>
                <a:solidFill>
                  <a:srgbClr val="fafd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actice!</a:t>
            </a:r>
            <a:endParaRPr b="0" lang="en-US" sz="2400" spc="1" strike="noStrike">
              <a:ln w="19080">
                <a:solidFill>
                  <a:srgbClr val="e84400"/>
                </a:solidFill>
                <a:miter/>
              </a:ln>
              <a:solidFill>
                <a:srgbClr val="fafd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800280" y="914400"/>
            <a:ext cx="7326000" cy="4884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928160" y="3078000"/>
            <a:ext cx="53528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fety Rule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working in the science laboratory, you will have certain important ____________________ that do not apply to other classrooms. You will be working with materials and apparatus which, if handled carelessly or improperly, have the potential to cause __________________ or discomfort to someone else as well as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18960" y="1234440"/>
            <a:ext cx="33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responsibili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38080" y="3412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ju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st who studied how people th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inking into level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level required using the information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st level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nowled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morizing textbook 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st but least 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28360"/>
            <a:ext cx="8001000" cy="39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ce laboratory can be a safe place in which to work if you, the student, are foresighted, alert, and cautious.  Violating any of the following regulations will result in you being _______________ from class or ______________________ from the class.  The following practices will be follow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429360" y="34290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usp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61400" y="391644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ermanently remo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n _________ must be present during the performance of all laboratory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Report any accident to the __________  immediately, no matter how_________, including reporting any burn, scratch, cut, or corrosive liquid on skin or cloth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repare for each laboratory activity by ________ all instructions before coming to class. Follow all _________ implicitly and intelligently. Make note of any _________ in procedure given by the instruc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87680" y="484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096600" y="14479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402240" y="1978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68120" y="38098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886920" y="426708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6325920" y="47242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d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8001000" cy="13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Any science project or individually planned experiment must be __________ by the tea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20574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Use only those materials and equipment _________ by the instr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3048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Inform the teacher ____________ of any equipment not working prope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6212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Clean up any nonhazardous _______ on the floor or workspace _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213200" y="14007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ro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10200" y="25138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uthor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725720" y="297108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564160" y="464724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631200" y="41140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32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Wear appropriate ______________, as directed by the instructor, whenever you are working in the laboratory. Safety goggles must be worn during hazardous _________ involving caustic/corrosive chemicals, heating of liquids, and other activities that may injure the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48320" y="15994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ye prote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067400" y="342828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3520" y="1560600"/>
            <a:ext cx="8001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Splashes and fumes from hazardous chemicals present a special danger to wearers of _____________. Therefore, students should preferably wear regular glasses  (inside splash -proof goggles, when appropriate) during  all class activities or purchase personal splash-proof  goggles and wear them whenever exposure to chemicals or chemical fumes is possi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Students with _________________ on hands must wear gloves or be excused from the laboratory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971440" y="1294560"/>
            <a:ext cx="289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tact len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038120" y="45720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pen skin wou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Never _______ hot equipment or dangerous chemicals through a ______ of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eck ______ and equipment instructions carefully. Be sure correct items are _______ in the proper ma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Be aware if the _________ being used are hazardous. Know where the material safety data sheet (_______) is and what it indicates for each of the hazardous chemicals you are u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819520" y="4874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r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782760" y="9144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2795400" y="19051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896560" y="28195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488120" y="33526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805360" y="42670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S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Never ______ anything or touch chemicals with the hands, unless __________ instructed to do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91640" y="4572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14760" y="13255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ecif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6880" y="25146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a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325200" y="29718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791680" y="38401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orat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707160" y="4373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09480" y="20271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Test for odor of chemicals only by ______ your hand above the container and sniffing cautiously from a 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533520" y="385596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Eating or drinking in the ____________ or from laboratory equipment is _____  permit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001000" cy="16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 When heating material in a test tube, do not ______ into the tube or point it in the direction of any person during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2333520"/>
            <a:ext cx="82296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 Never pour _________ back into bottles, exchange stoppers of bottles, or lay stoppers on the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09480" y="3733920"/>
            <a:ext cx="7848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. When diluting _____, always pour acids into _______, never the rever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075760" y="914400"/>
            <a:ext cx="1501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217680" y="2286000"/>
            <a:ext cx="23371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751560" y="3733920"/>
            <a:ext cx="1706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2608560" y="4191120"/>
            <a:ext cx="1750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160" y="571320"/>
            <a:ext cx="8001000" cy="24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. Wash hands as necessary and wash thoroughly at the __________ of the laborator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3352680"/>
            <a:ext cx="80010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. To treat a burn from an acid or alkali, wash the affected area ___________ with plenty of running water. If the eye is involved, irrigate it at the eyewash station without interruption for ___ minutes. Report the incident to your ___________ ___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895280" y="3657600"/>
            <a:ext cx="2922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751200" y="914400"/>
            <a:ext cx="2676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743000" y="4876920"/>
            <a:ext cx="120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943600" y="525780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tr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20760" y="56386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medi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nderstanding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put the knowledge into you own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lic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use the information in new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nalysi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eaking the information into meaningful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ynthesi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able to put information together to generate new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. Know the _________ of the emergency shower, eyewash and facewash station, fire blanket, fire extinguisher, fire alarm box,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. Know the proper fire and earthquake drill 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 Roll long sleeves above the _______. Long, hanging necklaces, bulky jewelry, and excessive and bulky clothing should not be _____ in the labora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. Confine long hair during a __________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066480" y="533520"/>
            <a:ext cx="21556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616760" y="2895480"/>
            <a:ext cx="2789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266160" y="3505320"/>
            <a:ext cx="1593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50440" y="5791320"/>
            <a:ext cx="256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abor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910160" y="4775040"/>
            <a:ext cx="1637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loom’s Taxonom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valu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ing all the information, making and defending value judgments about th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501480" y="615960"/>
            <a:ext cx="8141040" cy="5626080"/>
          </a:xfrm>
          <a:prstGeom prst="triangle">
            <a:avLst>
              <a:gd name="adj" fmla="val 4787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398760" y="5303880"/>
            <a:ext cx="21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70080" y="4618080"/>
            <a:ext cx="278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73480" y="3855960"/>
            <a:ext cx="237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35280" y="3170160"/>
            <a:ext cx="165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556080" y="2484360"/>
            <a:ext cx="180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421080" y="17985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1181160" y="5257800"/>
            <a:ext cx="670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638360" y="45720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171880" y="38098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705040" y="312408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3238560" y="23623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hat does this have to do with chemistry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884240"/>
            <a:ext cx="800100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 the past,  many of your classes relied on mem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 focuses on the higher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ask you to memorize a lot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sk you to learn processes and techniques and then apply them to novel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920880" y="692280"/>
            <a:ext cx="8140680" cy="5626080"/>
          </a:xfrm>
          <a:prstGeom prst="triangle">
            <a:avLst>
              <a:gd name="adj" fmla="val 4787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40120" y="187488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975120" y="2560680"/>
            <a:ext cx="180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54320" y="3246480"/>
            <a:ext cx="165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692520" y="3932280"/>
            <a:ext cx="237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89480" y="4694400"/>
            <a:ext cx="278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17800" y="5380200"/>
            <a:ext cx="21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600200" y="5334120"/>
            <a:ext cx="670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057400" y="464832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90920" y="3886200"/>
            <a:ext cx="464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048120" y="3200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581280" y="24382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820800" y="522756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97120" y="400860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897120" y="2560680"/>
            <a:ext cx="93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837720" y="3886200"/>
            <a:ext cx="17528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837720" y="4648320"/>
            <a:ext cx="1219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rd do I have to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, what, where, when, tell, label, define, select, choose, identify, describe, r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mpreh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, explain, discuss, classify, recognize, summarize, para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Word Clues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, solve, teach, relate, explain, predict, compute, illustrate, simulate, demon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, dissect, outline, compare, organize, diagram, distinguish, investigate, catego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5:59:18Z</dcterms:created>
  <dc:creator>Thomas V. Green Jr.</dc:creator>
  <dc:description/>
  <dc:language>en-US</dc:language>
  <cp:lastModifiedBy>jluckey</cp:lastModifiedBy>
  <dcterms:modified xsi:type="dcterms:W3CDTF">2011-02-05T14:35:16Z</dcterms:modified>
  <cp:revision>13</cp:revision>
  <dc:subject/>
  <dc:title>Chemistry is Hard</dc:title>
</cp:coreProperties>
</file>